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C40-1608-44E1-82AF-D87BEF19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C3C-2A34-4410-82B9-3732EEC3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01693-4658-4D15-9C71-CBE7D783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C9C50-77BE-49B3-B817-778BF796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2A96A-AF6D-4F67-A269-8C408B46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27C42-DDD1-4D79-A029-7966BDFC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03A7B-636C-4F59-9071-0B8750FE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BD6E1-A151-4708-B216-8FDA623D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4BCF8-6D45-47ED-A9DE-B0C2B414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77184-312A-4E85-83F4-5F0869B0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CF60B-DA3A-4348-BEBD-8F2DFABB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21109-F77D-4FC8-9A0D-68C4C56B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0FD-6DE9-4E46-A85B-7988D148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D191D-40C4-4FAE-9B0C-0C9C8959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6D572-9335-4A96-8719-85C80D1C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EFCC1-0023-4CC8-86BF-E50B93FF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E2328-9C7D-45A3-AFE7-7BDA7C15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01B42-8A4B-414F-8CA9-A02D3A79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0197E-3051-4876-81EB-5906A8ED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33A42-CC65-4BFD-83DC-AA41CB8C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047A0-48FF-4828-B04A-CFB56502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9906D-DF3E-43BA-B81B-F0876E46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797FC-CE46-4EE9-8E6E-D9047FF7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8F8F-939A-4079-8CB6-7803DCF4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C954B-0359-46D0-900B-B018E018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E4137-70CB-4744-A095-F62E85AC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8C613-4489-4667-935F-CA831B22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6B3AE-B191-4CBB-9367-5FB4FC8D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5C7C7-1D30-41B4-AC11-67CD8C50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049F4-4515-45DD-8E44-79759E54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86942-7DEB-43DD-90C5-030A32C0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D9EE5-7017-4CB0-8C13-C59F1C76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63198-16F6-4806-BE43-63E3998F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D523B-C7C9-4B09-9BE7-6C3FC7F4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BB89-6173-4C8D-9E42-B847558E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F427A-BE59-46D9-BDDE-06D72471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BEA68-6FB8-48F5-8702-CAB43101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8EADF-2FBD-4F24-B658-1398B330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88F72-F07B-4BC5-8AAD-32F6240E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6B687-B661-4CDE-8C5F-091D054D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04DBF-1553-4D51-ABC6-D82A1D28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4473B-F99F-490B-8F0C-86B79491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CB8A9-4BF3-407B-83D3-A3E60B4E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D8575-C50C-4F38-9CCD-4DA9B2BD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DE0B2-7662-4BBC-819C-71AE1538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C76E-5902-43EC-B3C5-CAB75483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C5EAA-4F17-4298-9CDE-ADAECAF7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04DC5-3EA5-4C20-B2F2-12F342C2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43282-E333-466B-AA3D-B2F4B116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73287-21FD-4E2D-A20F-FD73833E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65536-4CDB-4D1C-9F5F-9E900AFC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D696F-FA52-4059-9EE6-2FD8341E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492D2-7DD6-4C79-AF66-C92AC81B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ED748-4975-4E2F-8E6D-134E3751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29D18-A03E-4ABC-81F9-C6DB0778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DE160F-F6D5-4294-AD70-D1DF5458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0A11-61D0-491C-B734-3EAAC976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370EC4-5A52-4D65-B043-C8DE6519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FF967-6C4D-4D8F-9F22-8568F4CB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5ECD2-0E5D-4E8E-9C1E-9B9811D8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B918B8-B3B2-4731-B2F4-4599061F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4C905E-9375-4803-9F34-F825EF06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5E0500-DE58-4D28-9E51-430DAAE5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2711B-D69D-4128-8B28-F075C886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196FE-4B53-4077-A750-F8E20E3D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E9400-FDF7-4EAA-8FCA-D5F4A445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FF9FD9-BA74-4FEE-A5B1-41D4AB02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06B4-C965-4639-A5AC-452C125A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D10D9-6C7D-46A0-A1B0-5A7CA925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894060-97A0-4545-95B0-09BAEF52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8CA9E-A7D1-4FA5-AEFD-8A8A0165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ECE02-599D-4BB4-A901-AEEA6D50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9A6E01-B54F-4FA4-893C-FBAB7EB3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7350D-509A-4077-BA67-26ADC1FA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EBB65-C1FB-4C9C-A087-D29AB34C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A67F4B-25DC-417B-98B4-3C771DD2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DB0C9D-C2FE-4849-B970-3A6A56FD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DD65F2-BD6A-4AB0-8F9E-A1C91B8D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6449-ED24-4777-8F01-0A3BC796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AC9D38-01A1-4A11-A184-1687113D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C0E15-8934-4F77-87C2-EF320686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115FE2-F696-4B19-ACE4-97EBFC12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A29109-A9FD-4730-A389-48EC1463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80CA47-AF51-4AB5-BF34-BE64CC41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340682-2AFD-4CC8-BE68-1DBDA12F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32A4C8-FB39-4C6A-9285-2E761A4B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4236E2-8F60-4DED-8376-75057B07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253DC6-4229-4A21-A699-3C0DB35B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963BE0-33B7-41A1-BB54-C69289B1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9B02-0AE3-4DB8-AF97-A310BB29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3015C7-C568-4E19-8C07-D70127B9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6CDDD9-D54E-4CD0-9CC3-11E22AA2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961944-1864-4469-A673-9477DDE0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4781F1-360A-44D1-A18F-0D806B33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89F251-61F0-4C8B-841C-2D5FDBB2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C91EA7-40EB-4003-87D0-DC754771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D81743-1D97-4BA1-9398-48781FF8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1B75EB-11A3-40EC-9697-67CF67E1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67D0F7-CEE5-4C4D-A57D-09A3278B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332804-A9E8-44B1-A1AD-183E9860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79BA-5D1C-4024-8E3E-5382F6F1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9B9602-5166-4563-9716-66DC3084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80DB84-D805-4AD5-94CF-C1C5F6E4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BDFE55-FE31-4BD9-ADDA-E35A8C18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D7758B-BD54-4FCA-876B-77DC1F11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1B58E1-911A-4D9C-8DCF-8CE03932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31F97B-FC8F-40EA-9DEC-FF703611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21B7E1-7394-4341-81F6-4FCB4FD1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B4F7D5-30C7-4D48-A6B1-A2ADFCEA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42E9FD-FC93-4991-A552-014FA5B8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10EC6F-A269-480C-8E17-9AEC1015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13F-2305-41B1-AAE3-0C040178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10B8-5F3C-400D-9BA4-4AF72292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EA1965-5537-4987-98F7-523C22C5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FC4499-3E25-415E-9E81-EB9741DF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D2E8D9-A55F-4E99-B066-BCFF5EDB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322A52-4509-4A95-8552-B7026BA0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6ED135-C35C-4A12-AD1B-2ED0D993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CA59F3-FDAE-4020-95AC-6871F5C4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1F0DFD-6B28-4F23-9674-4A2CFCAF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5FA934-6305-4FDD-9BD0-34904BB8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D972D2-5972-47BE-9061-FB95B92A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FFB31B-E4B7-408D-8054-DF91B214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B825-2E63-426C-AE08-6FCF8BB9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2A863C-7609-4204-8ED7-7E01488F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CF82C7-EAB1-4521-ADAD-EC3F7840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FFDACD-B75E-4844-984F-957817F9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6A0A43-2493-450B-9E5D-9AF6E8F4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9BCC9D-43E4-4C03-89DC-FA6AED78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844D89-345C-4292-9155-E1ABCD24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4D30A9-4D17-46B0-950B-941CB331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DCABEF-668F-48BE-8A22-C4EF088F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0EAE2B-850E-4CB6-AD8B-0A1002A3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C36DDF-3803-46E5-80F1-FE36532E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0D4E-F826-4E0D-AEB5-F2388D10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641BEC-68B7-4C6B-A1DF-1CF72AAE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37E3BC-A737-4F32-BBD4-C6465493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C93678-B09B-43A3-94CD-ECFC3C83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543417-92B4-429F-A536-45296792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2457CA-B932-4D21-A378-A214C771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AB54D3-5F3B-4E4D-A7EE-12414F75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144DF0-D5A4-41B4-A93D-DBD818B6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0D6E27-8DBC-48C1-9D1F-2B4CFA9E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B32191-0CA9-4043-95E2-8AEA879F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8D5F2F-CC8A-48F3-9395-DE5ADB49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953D-7F02-4ADA-8D03-8E752304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5B8F24-41B6-4080-AC8C-82FC29DA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67DEDF-2186-4BDB-A100-79733EF8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0AEED3-2386-4069-9C5C-0CE367B3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4E2F02-88D8-4C9F-A476-A36F05A6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E53812-6CDD-4469-AF2D-FD989F9C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EC0906-B128-41DC-873E-91E37295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4EC0E9-3EC2-446D-B78B-26A037A0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E0710A-BB23-4AAC-970E-8F4FE713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3FF436-0FE6-46B6-9F6E-47408F09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2BEB0A-C465-4BA4-BB1F-14B65122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C1E0-0447-4C6D-A606-16AB02F6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503BB5-3A8D-4D7C-B194-DCD6FFFF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A8A7EA-03B2-4350-A4CA-E084BB43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C3D60B-1855-4065-B613-5C436C65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B0900B-C3FD-4435-91F6-53C1BAB9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DEB6A5-DD9B-408F-894F-9426E74A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5BC100-42F8-4890-B46A-768C87A1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6C0F46-D631-4993-81BB-663B87D5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2C9328-17AC-46AD-B8E1-0427727C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82D9C3-7196-41A8-B2F5-6E79898A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17E581-4A54-4E17-916A-3EF2A59C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69542-189F-4967-A5DD-A5AA4B31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20950D-1E20-4FDA-AF05-0D8B5379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50BB4D-BB66-421E-9D93-6B812F38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2AAB6B-6A93-48F4-AC34-9A27877A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D0DF9-72EE-49AB-A54A-94294684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1184E-782D-4705-826D-D064DDFC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7B918-12A0-481D-9374-AEC19F40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AB714-0B34-41BC-AF50-966BE1E3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7172-0C46-46F1-BF72-BBB3FA2B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D80D2-B28A-4F40-871E-9F8C5FC7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B3D0B-6CD1-4EC8-8E01-05614914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3573A-AB52-4E16-A3B0-7FE52779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24D36-588C-471C-A5CA-C0CC23EC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8109A-5A74-4466-BC7C-01638930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38823-42E4-4A93-AED7-8829795C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E1E4F-2ECC-4B02-94AA-BCE5B1C9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B8AFE-7923-4EF9-858F-21DF719F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2190D-6B68-4AF9-AE22-A58FAEE8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33946-E54C-427D-8FF3-DB964221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8188-C124-4992-A696-5E6E43FC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36BA2-3CF8-4F37-B9FC-9BDD34F0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63FCC-89CF-489A-8DA6-E4092947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95C3A-3833-4ACF-979E-0DB9ED6A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569CD-FA36-4DE1-87D5-59FF0068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39F38-F2B2-4B74-9D00-586A8DBA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375B7-26B1-40D3-8143-CCA0ED57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0E21F-DCDF-4F61-9FCA-6BBABA48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76EB8-CB0F-44E0-8181-2ED4F48F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2D3F8-DF4E-4C82-B601-76CA26B9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D2846-F9C8-4944-AAE4-9495194F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86E-9D91-4CA8-BA28-8F7AAA73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1ACBA-18AD-42CA-B2FA-1EA6785B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4E514-55FC-4758-BDD3-BE06CD4B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DC03A-15D4-47CB-BC6A-745A64C5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D4D6B-EAB4-4BB8-A281-0BDE4D81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EFE0E-884E-4A80-8A80-10F11605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85A67-6CAA-4874-9D03-62C412BB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8D2A2-CB1E-45B2-BB0C-A38705C2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D3FDB-A33A-4CF8-BEBE-06A7FDF8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7736A-1F85-43A8-A279-F8AA2FC2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9A487-55D3-4F0B-9684-3A592EAB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D3E1-7E72-4B76-82A2-54F8AE91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39605-7A08-4D8F-80EE-81BD1704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BA25A-C38E-4614-8232-A8ECB3BA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9EA95-7F9A-4F47-AFCC-D09561A3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A018A-EF82-4B68-A2B7-3D7C4F1E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963E1-CD0E-45BB-97C8-2183E6BF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872DF-14DE-48A2-A546-24E9BBF1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8E53F-0872-4E82-9E65-7B17ED17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C5C68-EADB-4382-BB15-DCB00EF4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3E46F-72D7-45AB-9F23-CA8A6CF5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80690-EB45-4F43-9CEF-0C9AAB48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481E-787E-47C3-8935-9098BB8E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B6329-CC51-49D4-80B9-20C8B1FA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E8FFA-14A1-492B-BF95-49B4C065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E391A-B1D2-4B6F-8B0E-5BF243D7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601A5-E9F2-4125-847E-457B0E30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7B387-67BC-4429-97C9-F868C62B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CF409-7DBC-4B99-9286-2D73F473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D3801-0C05-480E-89AB-3C6C3C4C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021F1-7D13-460A-AF3B-EB5697FC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A2978-9E7D-42A0-8EBA-75435C87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D4841-7C63-4074-B51D-A6475626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7CDD-E979-4660-A2B7-AEF0F454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62F54-21B2-4E7F-9FAE-BFE22E23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9FFBE-74CE-4290-9514-B7450D56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0D173-605C-4E85-ABE9-D7CB38AE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BB80F-D521-4114-9C0A-0DDC740D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A1A86-EC02-4392-97F6-B0AE0C59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07CEE-A8C6-43D7-B671-098415D3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80B50-9FD3-4A1F-A37E-D1AF43B7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AEF0B-AE22-496B-9252-2D3A76F3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2A528-28DE-4527-A883-297C863A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5CBE5-C87F-4BBF-92FD-E4C311EA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9D9-02AA-408A-8B1E-5F988F95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5A74B-9F06-4965-9917-2B4E57A5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FB432-F1E6-4B37-A559-9109E8D6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95616-23E1-4E71-B54C-8901C16C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2DF4F-1BFC-4276-B5B3-07EF5117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2662E-6572-42E2-A4F8-36F123AF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2AD27-99D8-4101-9D81-8B48EEEA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BD974-7A56-4DED-8EE3-A0C21005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CD577-540B-4C01-B887-38ACF3ED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ED5C4-1FAE-4781-8670-CB98177B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46467-7DB5-426A-A60C-54564E62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0F95-24F1-48FC-86AF-0D26E46401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11AB-D969-4AD1-9B34-3AA65804D2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D031-A3DE-48B6-8B69-4FDD9A846A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AC69-199A-4DE8-A2BA-356D2FF23B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4299-5E58-4DF3-A71B-D3A9FC3180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C5BA-6989-4037-AD1E-4B9E732A87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9BF2-C69F-45D9-BDF8-F0E6862340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240D-9B79-45F1-9236-9D1A0FCA21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0DE4-FEC9-46A1-9A4F-137023D23B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6D72-E36C-4C0F-8921-E578E6E152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FA30-73CE-47C9-91ED-90547CCB11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51D7-E74D-4366-AB99-BF5AE04C1D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E80A-12E5-4951-AADA-1949247E94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5AF4-ABE6-40B1-8C4E-D74AF2E033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CF0C-3BE4-406F-A504-6492580C90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BB46-F1EE-4CD0-92E0-D2756E99DB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1AC1-3FC6-4238-8EAE-88271AD69D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D230-6115-4F0C-B60D-C9DDC58D17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54AE-32BC-46C9-8D88-DCDA59D14C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E900-E2BE-4E2A-AECA-AD59C524D4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B8A2-DB1D-4C6A-B2E9-33D9C306EB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A633-DB5D-4088-A762-1488687C5E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953C-F11E-4F30-A3FD-B0CA38BE47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2D2E-B8A3-4A12-9F56-EFA3438A12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19AB-7545-479F-815E-C310499346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5BFD-BAAD-4BE9-A5F3-7D7D7FC0B5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4505-91D7-45CD-AE09-0AE60F631F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C87E-78E5-4A31-AB24-1466F78C96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B5A0-CD3A-44D1-877D-240692D118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9625-2E23-4CA7-BC63-1B872D7389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79B9-DD1C-41F7-90F2-AF29057EB1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28E6-04F1-432F-AB49-81651EAC27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957D-2DE8-472B-9DBB-24CA0D3F5C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6E9D-299C-4888-90E6-5F97B553FB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F7EA-4865-49AF-ACAD-35C8465EC8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EA5B-4B53-4081-8EAB-717C94BC74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82C6-F67F-457C-A617-044BEA34C8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8DBF-F0B6-4502-A2D4-1CB179B258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7FED-D09C-4920-8B1B-BA22D5C448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D562-2AFD-4908-A634-3ACD2704F0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8.png"/><Relationship Id="rId4" Type="http://schemas.openxmlformats.org/officeDocument/2006/relationships/image" Target="../media/image10.png"/><Relationship Id="rId5" Type="http://schemas.openxmlformats.org/officeDocument/2006/relationships/image" Target="../media/image18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367000" y="3162240"/>
            <a:ext cx="4410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542880" y="1366920"/>
            <a:ext cx="8058240" cy="41241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908000" y="2575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995640" y="2575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992920" y="25844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975440" y="2556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898640" y="29336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995640" y="2943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002280" y="2952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975440" y="2943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1898640" y="3338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3995640" y="3348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5992920" y="33130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7975440" y="33195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图片 60441" descr=""/>
          <p:cNvPicPr/>
          <p:nvPr/>
        </p:nvPicPr>
        <p:blipFill>
          <a:blip r:embed="rId14"/>
          <a:stretch/>
        </p:blipFill>
        <p:spPr>
          <a:xfrm>
            <a:off x="969840" y="4152960"/>
            <a:ext cx="1247760" cy="95256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60442" descr=""/>
          <p:cNvPicPr/>
          <p:nvPr/>
        </p:nvPicPr>
        <p:blipFill>
          <a:blip r:embed="rId15"/>
          <a:stretch/>
        </p:blipFill>
        <p:spPr>
          <a:xfrm>
            <a:off x="2233440" y="4152960"/>
            <a:ext cx="1209960" cy="94284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60443" descr=""/>
          <p:cNvPicPr/>
          <p:nvPr/>
        </p:nvPicPr>
        <p:blipFill>
          <a:blip r:embed="rId16"/>
          <a:stretch/>
        </p:blipFill>
        <p:spPr>
          <a:xfrm>
            <a:off x="3568680" y="4181400"/>
            <a:ext cx="1152720" cy="92412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60444" descr=""/>
          <p:cNvPicPr/>
          <p:nvPr/>
        </p:nvPicPr>
        <p:blipFill>
          <a:blip r:embed="rId17"/>
          <a:stretch/>
        </p:blipFill>
        <p:spPr>
          <a:xfrm>
            <a:off x="4816440" y="4148280"/>
            <a:ext cx="1152720" cy="94284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60445" descr=""/>
          <p:cNvPicPr/>
          <p:nvPr/>
        </p:nvPicPr>
        <p:blipFill>
          <a:blip r:embed="rId18"/>
          <a:stretch/>
        </p:blipFill>
        <p:spPr>
          <a:xfrm>
            <a:off x="6054840" y="4143240"/>
            <a:ext cx="1199880" cy="96228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60446" descr=""/>
          <p:cNvPicPr/>
          <p:nvPr/>
        </p:nvPicPr>
        <p:blipFill>
          <a:blip r:embed="rId19"/>
          <a:stretch/>
        </p:blipFill>
        <p:spPr>
          <a:xfrm>
            <a:off x="7370640" y="4133880"/>
            <a:ext cx="1162080" cy="961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1332000" y="5229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2484360" y="5229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3564000" y="5229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3"/>
          <a:stretch/>
        </p:blipFill>
        <p:spPr>
          <a:xfrm>
            <a:off x="4716360" y="5229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4"/>
          <a:stretch/>
        </p:blipFill>
        <p:spPr>
          <a:xfrm>
            <a:off x="5796000" y="5229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5"/>
          <a:stretch/>
        </p:blipFill>
        <p:spPr>
          <a:xfrm>
            <a:off x="6896160" y="5195880"/>
            <a:ext cx="288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9410" descr=""/>
          <p:cNvPicPr/>
          <p:nvPr/>
        </p:nvPicPr>
        <p:blipFill>
          <a:blip r:embed="rId1"/>
          <a:stretch/>
        </p:blipFill>
        <p:spPr>
          <a:xfrm>
            <a:off x="119160" y="1938240"/>
            <a:ext cx="8905680" cy="2981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2987640" y="28526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59412" descr=""/>
          <p:cNvPicPr/>
          <p:nvPr/>
        </p:nvPicPr>
        <p:blipFill>
          <a:blip r:embed="rId3"/>
          <a:stretch/>
        </p:blipFill>
        <p:spPr>
          <a:xfrm>
            <a:off x="947880" y="2800440"/>
            <a:ext cx="1655640" cy="3762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2978280" y="37544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59414" descr=""/>
          <p:cNvPicPr/>
          <p:nvPr/>
        </p:nvPicPr>
        <p:blipFill>
          <a:blip r:embed="rId5"/>
          <a:stretch/>
        </p:blipFill>
        <p:spPr>
          <a:xfrm>
            <a:off x="947880" y="3701880"/>
            <a:ext cx="1655640" cy="376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6"/>
          <a:stretch/>
        </p:blipFill>
        <p:spPr>
          <a:xfrm>
            <a:off x="826920" y="4581360"/>
            <a:ext cx="86544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8373" descr=""/>
          <p:cNvPicPr/>
          <p:nvPr/>
        </p:nvPicPr>
        <p:blipFill>
          <a:blip r:embed="rId1"/>
          <a:stretch/>
        </p:blipFill>
        <p:spPr>
          <a:xfrm>
            <a:off x="104760" y="1185840"/>
            <a:ext cx="8934480" cy="44863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539640" y="2800440"/>
            <a:ext cx="1871640" cy="2570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395280" y="3203640"/>
            <a:ext cx="1871640" cy="2570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395280" y="3573360"/>
            <a:ext cx="3384720" cy="2574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1177920" y="4869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1801800" y="4878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7"/>
          <a:stretch/>
        </p:blipFill>
        <p:spPr>
          <a:xfrm>
            <a:off x="3419640" y="48690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8"/>
          <a:stretch/>
        </p:blipFill>
        <p:spPr>
          <a:xfrm>
            <a:off x="4038480" y="4869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9"/>
          <a:stretch/>
        </p:blipFill>
        <p:spPr>
          <a:xfrm>
            <a:off x="5641920" y="4869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0"/>
          <a:stretch/>
        </p:blipFill>
        <p:spPr>
          <a:xfrm>
            <a:off x="6262560" y="4869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1"/>
          <a:stretch/>
        </p:blipFill>
        <p:spPr>
          <a:xfrm>
            <a:off x="601560" y="5310360"/>
            <a:ext cx="18734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42:22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